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DAA2-DE72-478E-BD4E-79FD9E55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43C1-F991-4DFD-8969-B869DD01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0407-7FCB-485F-B5B9-13116234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A3D1-F312-44B4-B1D5-D18A77AB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5CC-BFE1-439B-BB2A-35AA548B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9B1-CB6A-4BA4-B82B-7C145E1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B8AF-52CC-4BC4-8A12-F810968A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4E5F-39E5-4075-BD01-0DDA88AA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65DD-2304-4518-9227-0E6B94C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27C-1023-46AD-BB8D-A7A863B5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7051-32F0-4968-AF60-47D4DB24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2006-CE74-4EC2-813B-FB30E8A1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1885-0DE0-4C02-A5A6-84A4195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F62-EF4F-41BE-9B49-05CD696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8D8C-CB64-48F8-BF38-1BC82A2E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BF61-7DEB-47E7-B7E8-A01B887F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95AC-3911-47D1-A07E-7A93BF31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AC7D-4835-457C-B3F3-489650E5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F61D-5980-4B45-B67E-175A32A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8887-8818-4AE6-A555-F4AB4911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07AD-15BF-4B8B-856E-F8C9A37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C594-CC71-4871-9491-E160C45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0456-3EE0-4905-8888-6394CC2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799D-1C35-4904-AEBA-4DFFE8B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3356-A3C9-4F39-AAEA-C420949E6D2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38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d79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8200"/>
                  </a:gs>
                  <a:gs pos="100000">
                    <a:srgbClr val="4a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f7d00"/>
                </a:gs>
                <a:gs pos="100000">
                  <a:srgbClr val="4a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DE9-9636-49F1-955A-7995F826E7EE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6104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ae8ba"/>
                </a:solidFill>
                <a:latin typeface="Garamond"/>
              </a:rPr>
              <a:t>APRENDIZAGEM INTERATIVO-VIRTUAL: EXPERIMENO EM CONTEÚDOS DE LÍNGUA INGLESA </a:t>
            </a:r>
            <a:endParaRPr b="1" lang="en-US" sz="32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. STE Gerson 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íodo: Notu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cola Estadual Senador Filinto Mull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inhema - 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RESULTADOS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Grato!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-mail: gersonfachiano@yahoo.com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N: gersonfachiano@hotmail.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itter: www.twitter.com/gersonfachia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Público-Alvo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e projeto está senco executado com a professora de Língua Inglesa Roseli Mazzaro e aos discentes do terceiro ano do ensino médio notur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OBJETIVO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Este trabalho tem por objetivo capacitar docente e discentes para utilizarem ferramentas digitais no processo de ensino-aprendizagem de Língua Inglesa (LI) potencializando o ensino do mesmo através da utilização de plataformas digitais da WEB 2.0 (PRAL e XTranormal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JUSTIFICATIV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tindo da realidade de hoje, em que muitos professores não têm uma idéia exata de como se processa o aprendizado com a utilização das novas tecnologias disponíveis ao docente, este trabalho se destina a todo leitor interessado em conhecer uma das muitas faces dessa tecnologia aplicada à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educacional, ou seja, as várias possibilidades de como ensinar e aprender uma segunda língua empregando as T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FERRAMENTAS DIGITAIS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Foram escolhidas duas ferramentas digitais: a primeir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. O </a:t>
            </a:r>
            <a:r>
              <a:rPr b="0" i="1" lang="pt-BR" sz="2800" spc="-1" strike="noStrike">
                <a:solidFill>
                  <a:srgbClr val="ffffff"/>
                </a:solidFill>
                <a:latin typeface="Garamond"/>
              </a:rPr>
              <a:t>PR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é um portal de relacionamento educacional que possibilita estudantes e professores interagirem por meio de diversas ferramentas, possibilitando assim, uma maior interatividade com o grupo. A segunda ferramenta digital que será trabalhada é o </a:t>
            </a:r>
            <a:r>
              <a:rPr b="1" lang="pt-BR" sz="2800" spc="-1" strike="noStrike">
                <a:solidFill>
                  <a:srgbClr val="ffffff"/>
                </a:solidFill>
                <a:latin typeface="Garamond"/>
              </a:rPr>
              <a:t>XTranormal</a:t>
            </a: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 que é uma nova ferramenta para a criação de animações 3D como dramas, comédias e o que mais você quiser que os atores faç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METODOLOG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tap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rofessora de línguas passou por uma capacitação que abordou todas as formas de utilização do PRAL criando-se nesta ocasião a página da docente. Em seguida, houve a capacitação quanto aos recursos da ferramenta digital Xtranorm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roseli pral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006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04920" y="5335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ágina da Profa. Rose Mazzaro. Realizada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RIANDO O FILME xtranormal"/>
          <p:cNvPicPr/>
          <p:nvPr/>
        </p:nvPicPr>
        <p:blipFill>
          <a:blip r:embed="rId1"/>
          <a:stretch/>
        </p:blipFill>
        <p:spPr>
          <a:xfrm>
            <a:off x="152280" y="1563840"/>
            <a:ext cx="8839440" cy="3998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28600" y="547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azendo o filme com a professora Rose na capacitação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676520" y="5867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http://www.youtube.com/watch?v=nQxRObYdD0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2</a:t>
            </a:r>
            <a:r>
              <a:rPr b="1" lang="en-US" sz="4400" spc="-1" strike="noStrike" baseline="30000">
                <a:solidFill>
                  <a:srgbClr val="bae8ba"/>
                </a:solidFill>
                <a:latin typeface="Garamond"/>
              </a:rPr>
              <a:t>a</a:t>
            </a: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 ETAP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esentação e cadastro dos discentes à plataforma PR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ção com os recursos do ambiente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esso aos conteúdos e as atividades postados pela professora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aboração de um roteiro aplicando o conteúdo aprendido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iação do filme utilizando o site Xtranorm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8:05:37Z</dcterms:created>
  <dc:creator>user</dc:creator>
  <dc:description/>
  <dc:language>en-US</dc:language>
  <cp:lastModifiedBy>MicroCarla</cp:lastModifiedBy>
  <dcterms:modified xsi:type="dcterms:W3CDTF">2009-08-11T13:10:32Z</dcterms:modified>
  <cp:revision>52</cp:revision>
  <dc:subject/>
  <dc:title>PROFESSOR FORMANDO PROFESSOR</dc:title>
</cp:coreProperties>
</file>